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54D4-2A29-4E7C-9C41-152B0D0B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7BEF-B106-44F1-B90A-524AA0A0D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B12-377E-41C3-BED2-1E20CBDB7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53C3-90F8-4081-AA87-CF40D4F42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9BE0-943C-462A-8DD4-EC1E8DE6B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C29-274F-4F69-86B0-6181FFE643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133A-D07D-41DB-9E68-84818265C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83C1-E7EE-40A1-AD26-FB9B54B09A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5FC-A061-4297-92DF-C594AEB8D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125-1E6E-41B0-B331-497974EF7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3345-6E1E-4EE7-B9C6-8C23185B29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8A9-69C5-46A3-AD4E-56F71A1D8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BA7-B979-4662-BB3A-829B81156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B198-C233-43D1-B0F9-60E9A460C1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66A-BC1A-4835-B268-FA5DEF6D12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5977-13DE-4626-897A-E4AF3CC5AA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8AF-1D1A-431D-8B0E-75F36A494E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43D-E4CE-4524-86DC-86EC34DB5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E21E-381F-4DBC-A8C8-C6DF7E9E8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3A76-AC13-4481-B1D5-AC34A89EC9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D056-61A9-4268-B8F6-C15FA8362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1C9-8512-4D54-A454-61EF9357E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1655-BD7B-4A1D-B42F-52F74CC29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E730-A273-4BAA-A5A4-993621E47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395-1F0F-42C7-A729-27F5093F7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68B-E392-4CF7-B260-4D3258344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B45-6C8F-42A5-86FE-989AC1ECE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B68-1D39-4650-8684-3D759F61E4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E237-04BE-4334-8571-07803ACE1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EBC2-8756-4585-8032-C6C65AF16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46E1-B4BF-45F0-A7EC-F4AFE95EE6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A7A-A4B6-4FA0-B78B-0E2523CE96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26C5-BDE3-41AE-A258-00E1D218B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B86-5B70-40F6-AB58-A6C8ED6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851-4A98-44ED-B7BD-5D45C2A6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3FF-03FB-4C89-B81A-E3721419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2C7-3D16-4182-A39F-2EFDA7C9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9BE4-04AC-4A31-A550-49E45EEE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3D72-A618-40C4-BF99-43419373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590-9F72-4FE1-A77A-040E957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71F-02D8-466B-9CF5-43E0AD3B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C51D-1A16-4B3B-B99C-E7E74511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6079-20C5-442E-B2C3-102EFB05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6EF-E7FF-4E5B-B402-E024F0C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C29-9E97-45E9-8971-143BB26B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1D9-7F8C-4B8E-80F1-B585BBC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146-A5FB-4BC3-9791-7920A2E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FADB-D002-436F-9DF6-0FCDAA7F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BB4-9225-4B27-9E07-F872F658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296-0CCF-450C-B21B-B3EF941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740-0069-429F-9B00-4D687D7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CAA-9D70-4E85-9DA7-1DE24E6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C4E-F013-4FE1-BC3E-8B9BEF9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838-0679-4F94-8902-B7200AA3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4B6-275F-4959-8A2A-E188D23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C6E-0E35-4391-82F8-A176EAF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E50-DE78-4FC6-9E7E-9C2F20F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04B3-480B-4FD2-940C-4EF70321A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E1CF-50B5-492F-B490-891C28AE1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Management of Organizational Behavi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Johari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to 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known to 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i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known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vat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know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Johari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ool is used to assess leadership personality(self perception and perception of oth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nown to Sel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their knowledge of the way they are coming across to others and the impact they are having on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nknown to Sel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areas leaders are unaware of how they are are coming across to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e to a lack of feedback or poor perception by the lea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nown and Unknown to Oth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behaviors and attitudes that that are both known and unknown to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re feedback received by others the larger the public arena becomes and the blind arena becomes sm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los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types of discl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How they behave.(observing actions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Organizationally relevant information about how they think or beh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the more disclosure the larger the public arena and the smaller the private ar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-Perception versus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perception of leadership style can be measured using LEAD 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 style can be measured using LEAD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discrepancy between self-perception and the way others perceive results in a small public ar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no significant difference between the two then the public arena is lar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 It Too Lat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lt is the greatest waste of emotional energy due to the feeling resulting from a past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what can be done from this point forw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er a behavior has been reinforced the longer it will take to chan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ware of stressors and address their r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1-3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 (high task behavior/ low relationshi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3 (high relationship behavior/ low tas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1-3 combo profile finds that these leaders classify people as theory X or theory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s they are either “For or Against” the lea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are either “Good or Bad”, “Lazy or self-motivate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ers perceive this as well and are aware of where they stand with the lea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erate readiness levels R2’s often become self- fulfilling prophecies moving up to R3 or down to R1 stat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leaders do better with low or high readiness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 a problem, the R1’s seldom move up due to a lack of skills developed as part of this cy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AD instrument was designed to measure three aspects of leader behavi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 range, or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 adap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1-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1’s (high task/ low behavi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4’s (low task/ low behavi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eaders who use primarily these styles tend to classify groups as “Competent- leave alone” -or- “Incompetent -ride you” approach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types either tell or deleg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 tend to be effective at crisis interventions and handling organizations with severe problems with limited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t this type tends to lack the skills to take lower level readiness to a high le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 evenly split readiness group these leaders will make followers either progress or reg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&amp; 4 are the “risky styles” due to the amount of crisis that can occur if the styles aren’t effective.  Example: a low readiness group treated as a S4 leaving people on their own allows for a high probability of deteriorating environment thus problems.  As would be the opposite if a high readiness group was managed with a S1 creating much resent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2-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2’s (high task /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3’s (low task/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ypes tend to due well with groups of average read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 they find difficulty in handling discipline problems and work groups at low levels of read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ion problem tend to inhibit maximum prod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a whole these types tend to be effective due to most people being a readiness 2 o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making the 2-3 group the “safe styl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1-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’s (high task / low relationshi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2’s (high task / high relationshi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types tend to be able to raise and lower their socioemotional support but often fell uncomfortable unless they are “Calling the shot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 of these types are sales managers that still love to sell or teachers who have become administrators yet still love to direct student activ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often project “no one can do things as well as I” Thus often self-fulfi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types tend to be effective with low to moderate levels of readiness. Also with manufacturing and production and crisis re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these types typically don’t develop others to their full potent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2-4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2’s (high task / 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4’s (low task / low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ypes tend to not feel secure unless they are providing much of the direction, as well as developing a personal relationship with people in an environment characterized by two-way communication and socioemotional support (high relationships behavi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ion is rare and often ill-assig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mission of S3 tactics often lead to misinterpretation of low to high task delegations as punishments rather than autonom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 3-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3’s (low task / high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4’s (low task / low relation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ypes are effective at raising and lowering their socioemotional support but feel uncomfortable initiating structure and providing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ork well with moderate to high levels of read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good for decreasing levels or one’s needing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tend to learn and employ other techniques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Profiles for Different Levels of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28800" y="2362320"/>
          <a:ext cx="5334120" cy="2590560"/>
        </p:xfrm>
        <a:graphic>
          <a:graphicData uri="http://schemas.openxmlformats.org/drawingml/2006/table">
            <a:tbl>
              <a:tblPr/>
              <a:tblGrid>
                <a:gridCol w="388620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p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– S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–S4                              S1 –S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visory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–S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o-Style Pro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 basic style that encompasses two of the four possible configuration sty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A basic style and a supporting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nfo is crucial in a effective data stu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 ranging styles need a shorter time to become effective versus those with a smaller 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l effective managers use all of the styles, as appropria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s to Building a Te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others in who will compliment their leadership style rather than replic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ide range of styles represents a wide range of problem resolution opportu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ose who understand each other’s ro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Situational leadership with key followers and clarify what is exp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racting for Leadership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Situational Leadership with key staff to enlarge everyone’s public ar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MBO- (Management by objectives program) implementation using the appropriate style in a contractual plan of goals and objectives delegated to key perso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 style selection by all parties results in shared resul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leaders have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adership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y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defined as the behavior pattern us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st oft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en attempting 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lu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ar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e is one that is used 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cca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ay hav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condary style 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to th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diness Style Mat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s readiness using two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bility or job 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illingness or psychological 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status tends to vary little the willingness piece may change quickly and dra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Five Steps to Effective Task Accomplish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Establish objectives and performanc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Reach  agreement on objectives and performanc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ntroduce Situational Leadersh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mplete readiness style mat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Meet to share data from Readiness Style 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aspects of leadership behav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tyle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tyle adap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 diagnostic instruments for those Three asp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hari Window used to assess self and other’s per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-Style profiles and Contracting Leadership Style 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Range, or Flexi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yle r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extent to which leaders are able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ir leadership sty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leader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ry their styles thus they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ffective when the situation is compatible with that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ify their behavior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potential to be more effec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w and high flexibility leadership situ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w level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level manag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 level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level manag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ovative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yle Adapt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yle adaptabi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egree to which one c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ir sty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ropria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the demands of a given sit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 style range will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arantee effectiveness; style rang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relevant to effectiveness 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yle adaptabi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yle used for any given situation will most likel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 be 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st appropri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yle to the situation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ey for effective leadersh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lling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the four basic styles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ssue; the question is on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illing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the new styles are learned and applied ironically tend to b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st 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e to being learn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n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cio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y, practice , and appl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new styles results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due t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er foc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th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nate respon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diness Levels and Leadership Sty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905120"/>
          <a:ext cx="8915400" cy="4200480"/>
        </p:xfrm>
        <a:graphic>
          <a:graphicData uri="http://schemas.openxmlformats.org/drawingml/2006/table">
            <a:tbl>
              <a:tblPr/>
              <a:tblGrid>
                <a:gridCol w="1782720"/>
                <a:gridCol w="1722600"/>
                <a:gridCol w="1752480"/>
                <a:gridCol w="1905120"/>
                <a:gridCol w="175248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i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st”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-best”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rd-Best”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ast Effective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S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4 Deleg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2      Low to 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 S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 or 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4            Delegating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3 Moderate to 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Selling or S4 Deleg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4 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4 Deleg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3 Particip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2 S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1 T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osing the Appropriate Sty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is not entirely predicated on employing the best choice of style for every situ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may come from a secondary third or fourth choice if the leader so cho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it’s not an all or nothing rather more aptly assessing readiness and choosing an appropriate sty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3:41:34Z</dcterms:created>
  <dc:creator>WSFCS Standard</dc:creator>
  <dc:description/>
  <dc:language>en-US</dc:language>
  <cp:lastModifiedBy>AEURY</cp:lastModifiedBy>
  <dcterms:modified xsi:type="dcterms:W3CDTF">2008-10-20T16:41:21Z</dcterms:modified>
  <cp:revision>6</cp:revision>
  <dc:subject/>
  <dc:title>Chapter 12  Building Effective Relationships</dc:title>
</cp:coreProperties>
</file>